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F6AB-7DC4-4804-AF39-5247C9C160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91C4-9987-41F5-82B3-9A60EE867B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A86-A1C0-4974-AACD-6860860D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80B-F892-49FF-A3D8-B19471C2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E05-365D-4FCD-9B0E-DC447A41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5F4-2833-403B-8155-0360F90B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95AC-E994-47CE-9990-C5A846B2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C6C5-575D-4D69-B8F9-C58638DB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85A8-C9FC-4F09-A90D-7BC64EA2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0785-9C11-4FE3-8EE2-6A6A30A8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31E9-D58F-4651-91CB-D5486C37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E4FA-2B0D-4C21-9333-2E2F3D31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4B6A-FB72-41F7-A31A-9AC14C64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FE1-A04D-4B83-A696-42C1D2D1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9924-B76D-48D1-9AE2-9016ADCA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FFE0-63AD-4DDE-AD4D-0DECEE77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4818-19E4-4081-A174-0BBAF473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6862-3F89-4802-B066-AE5D06F7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3AA5-5FEC-43BE-9B58-24C51B1F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92990-F292-4E91-A6A3-5F52D6CA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C3EDD-19AB-4C71-94FB-BA402B46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4E852-21F1-4CC9-8B76-0ADB6CD0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22DEA-51B4-4ECF-A88E-80858D1A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88F73-3CD2-4192-BB1D-1F17171E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161-56F3-4A79-8E43-B695969D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DB9EF-7ED8-41F2-975B-A0F8504C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9F009-2A5E-4882-906D-7D7087C4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404E7-7183-4397-AB6D-68EB6EBC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02904-0825-4DFD-8E9A-B663E7D2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479F-8308-4846-AA1F-92C093BE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FF37C-D258-4DD6-AC98-9F582727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C869F-BEAC-4C47-B43E-43B537C6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883F3-329D-4242-A0A8-5D41997A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8F72E-B148-4092-8B25-CD0ED39D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C5F8-EE56-4805-86B1-A3AF0F63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06C-306E-4722-8EEB-9C7624F5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53477-2DDA-43B4-B9DA-703BC509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A5C59-32AA-444C-8A9C-DEA3E8C7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8E48C-F48F-4419-8159-72E3F9DD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C6A6-9311-4850-BC64-A3AD2FEA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A7481-2AA3-4F34-9CE5-FC7F6599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D8E68-E890-4653-8599-39B589E9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33797-BDF6-4D7C-B8CA-8778141A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43027-EFB4-4BD8-A903-5203B206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2AD87-D683-449C-9CFC-2291B95B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2C00F-AEB6-4BD0-95B4-AC374362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BCC-5C41-47F8-B9AE-A1BE461C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45A0B-0581-416E-8CCD-9E0B1758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A1DAB-21B9-4A82-8BE9-3136B610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CE96A-DFE4-4EC9-99A2-D077542A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96749-6F02-4BC8-9909-2D54D44A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A1566-20D2-4F8D-8C12-C2D888A8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1B6E4-D002-4DB1-AC7A-1BE1C6AB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4F7E1-D8FD-4353-B3E0-7E8F866B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2082B-175F-4F56-B7E9-E614FB72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E6F2E-3400-427C-9E83-F7EB0101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86CB4-1ADF-4FDD-9A6E-B0DB36BB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4C6-3B22-47D4-9E49-96E3FDAF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352A6-6B70-426F-9E76-9567EB09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9E3-12D8-4EA5-882A-8E96BD63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41F-CD9C-4D44-AD15-0EA64F42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B67-5D18-480F-A559-064E05EF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E42D-E9BB-4227-93CD-4A077588F99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82C5-7BE2-4677-B42C-9D9CDD4B382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49E3-72FA-41A2-AAD2-7C7ADF89F92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27E2-C18C-4E25-92B7-D2C427AB16E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EB8E-82B3-4421-B9DE-03F02A5C142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\9dddefd664d642192a2a048932eb80a1.jpg"/>
          <p:cNvPicPr/>
          <p:nvPr/>
        </p:nvPicPr>
        <p:blipFill>
          <a:blip r:embed="rId1"/>
          <a:stretch/>
        </p:blipFill>
        <p:spPr>
          <a:xfrm>
            <a:off x="2195640" y="1131840"/>
            <a:ext cx="4827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8T17:31:12Z</dcterms:modified>
  <cp:revision>35</cp:revision>
  <dc:subject/>
  <dc:title>ТВОРЧЕСКАЯ ДЕЯТЕЛЬНОСТЬ: ЗНАКОМСТВО С ТЕХНИКОЙ ИЗОНИТЬ</dc:title>
</cp:coreProperties>
</file>